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674-1FF8-4FB5-A89F-ECEBE68434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BA32-2130-4E42-B49E-2DD834CC5F5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210C-2EE7-4ABC-8809-E858240BF0B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13BE-68C8-4FA2-939B-3E48B679887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14CB-305D-4A6C-B29A-15F363AD29C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8574-5191-4214-B534-B894CEF25CC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0BE9-6BD3-4669-8FDF-C6EE36C2671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FD8E-031F-483E-BF81-830DE549F65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BAC3-6BB1-4472-B379-CC46029CF1C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79BA-11E0-4D97-943B-1277364BDF04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8F92-E33F-4E98-AB74-47866D9CAD1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A24A-FBE7-4E23-B024-19890086166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0B04-181C-4F04-8C71-55284255B51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79EC-4648-4664-AC2A-27672482D9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2CBD-45D4-456A-A3C9-52FC9445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C87F-E650-40F0-8AEC-45DA0BCE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9AA-CCD4-4716-9350-FD1E4D08C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41B-DE3C-4162-8F48-7B67DBBD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0B14-95A2-4D08-8DF3-413DC892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02E2-C1B3-4D38-8CC2-5B3ACF6C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D96F-49B8-4310-82DA-FFBB4C16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3D28-2169-4958-835A-984EBA6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DDEB-85FF-42EE-B124-183CB34D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E383-6B30-45B3-8A79-B04CC40F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AEA0-3102-4AA5-A5D6-AC5EAE0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ECD4-9E4A-43C1-BE1E-2E689E64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3DAC-65C1-43CE-A344-12A929B7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1D70-7DFC-4FF0-AD2A-C7A6A0A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9FBB-E48B-49A4-9381-FE64DCB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B883-4BB3-4027-AF27-D4601852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FEBF-0B10-4E08-A815-CB40FBD7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9C4-1AE0-4AAD-9789-E7340AC9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9081-AD49-4686-9215-95551C2D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5BD-C7FA-4CBE-A59B-D83DE42EE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7B79-CAB7-489B-B180-EE889957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650-0CBC-4637-B3DE-7662C8F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2BC4-0577-4744-ABA1-A404FDE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CEA-34FA-41C8-9507-B64D13F2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2338-790C-48CA-85AD-46C4695335F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FAC8-45CE-4EA0-86C4-F51835CFE52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8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russels, 3 December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PA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9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sult of a EC consultation shows that a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end-dat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o the process of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migration to SEPA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s required. Migration to SEPA is irreversibl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800"/>
            </a:b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Bank account switching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ithin a MS is made easier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-Nov-09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24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EPA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Direct Debit Schem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for EU MS) becomes eff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189-E5B1-45C4-B46E-934B2FA024F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2D6C-7641-474A-B18F-B1A945E4726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4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nsultation on the IFRS for S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of audit working papers between MSs and Canada, Japan and Switzerland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Need to remove barriers to entry for audit firm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ossible adoption of international standards for statutory audit of EU compani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Financial Reporting and Taxation 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6CB1-9A3C-4EB1-B50E-72988C1F8C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oval of barriers to entry for audit firm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7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published a summary of the consultati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on control structures in audit firms and their consequences on the audit market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udy,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conclude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ll potential barriers to the entry, growth and survival of audit firms in the international audit market must be removed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urrent rules are not indispensable in order to retain human capital.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 number of other</a:t>
            </a:r>
            <a:r>
              <a:rPr b="1" lang="en-GB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arriers to increasing the number of audit firms operating on the international market were identified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5DD2-A448-414B-A55E-CE977B8FE1A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713E-7A14-4932-9EB2-59DEEF2C18B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2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Banking Regulation and Supervis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6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and Securit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tail Financial Services and Paymen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11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inancial Reporting and Tax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4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ar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ll EU legislative initiatives in the past period have been related to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untering the causes of the current financial crisi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rectly or indirectly, most of the legislative initiative have a European and often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internationa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scop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 this Presentation: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focus on one issue per theme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or more detail, see the 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complete set of initiative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to be circulated after meeting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4074-A6AD-41EB-9F0B-12178E1C955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2DA2-D672-4E68-BB4D-41B854569B7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6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financial supervision in Europe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New EU Framework for Crisis Management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rengthened rules on bank capital and on remuneration in the banking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hanges to the Capital Requirements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view of the Financial Conglomerates Directive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Banking Regulation &amp; Supervision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D095-D06E-4C95-AFE9-6FDEA17C571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Supervision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3-Sep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package of draft legislation to strengthen supervision of the financial sector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legislation will create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Boar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RB) an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ESFS), to be established by end-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6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dditional legislative proposals targeted to change existing financial services legislation to ensure that the new Authorities can work effectively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6519-AF42-43B4-9120-6AD18BE8A96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7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Strengthened safety of derivatives markets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(2)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afer European market for credit default swap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rivatives in crisis – Safeguarding Financial Stability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Red tape reduction and improvement of investor protec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tudy on trading and post-trading prices, costs and volu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ublic consultation on the UCITS depositary function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2500200" y="285840"/>
            <a:ext cx="63579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5cad"/>
                </a:solidFill>
                <a:latin typeface="Times New Roman"/>
              </a:rPr>
              <a:t>Financial Markets &amp; Securitie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38D2-A5ED-4F2C-AEE6-E74B2CA41CB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afety of derivatives market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20-Oct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fter a stakeholder Consultation launched in Jul-09 and the public hearing in Sept-09, EC adopted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munication for ensuring efficient, safe and sound derivatives market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The Communication sets out future policy actions to: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increase transparenc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of the derivatives market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reduce counterparty and operational risk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in trading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enhance market integrity 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and </a:t>
            </a:r>
            <a:r>
              <a:rPr b="0" i="1" lang="en-US" sz="2200" spc="-1" strike="noStrike">
                <a:solidFill>
                  <a:srgbClr val="0066cc"/>
                </a:solidFill>
                <a:latin typeface="Times New Roman"/>
              </a:rPr>
              <a:t>oversight</a:t>
            </a: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EC will start a process of drafting legislation, notably by launching impact assessments, and come forward with legislative proposals in 2010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8919-6B24-4E02-B0A2-05AC3C35A6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Times New Roman"/>
              </a:rPr>
              <a:t>11 Items</a:t>
            </a: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Consumers to start benefiting from easier bank account switching from Nov-09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SEPA – Cross-Border Payments Now A Reality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Possible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General support for end-date for SEPA migr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66cc"/>
                </a:solidFill>
                <a:latin typeface="Times New Roman"/>
              </a:rPr>
              <a:t>Actions to make SEPA a succes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Technical Workshop on Packaged Retail Investment Product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access to a basic bank account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lternative dispute resolution (ADR) in the area of financial services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Report on the financial crisis and financial education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ing responsible lending and borrowing in the EU;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xpert group report on credit historie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2357280" y="285840"/>
            <a:ext cx="6500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5cad"/>
                </a:solidFill>
                <a:latin typeface="Times New Roman"/>
              </a:rPr>
              <a:t>Retail Financial Services &amp; Payments</a:t>
            </a: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7381-7718-4737-8B1F-0552D02CDE7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EPA Roadmap for 2009-2012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66cc"/>
                </a:solidFill>
                <a:uFillTx/>
                <a:latin typeface="Times New Roman"/>
              </a:rPr>
              <a:t>10-Sept-09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C adopted a Communication on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Completing SEPA: a Roadmap for 2009-2012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ommunication provides a framework for action within six priority areas: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oster migr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Increase SEPA awareness and promote SEPA products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Design a sound legal environment and strengthen SEPA compli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Promote innovation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nsure necessary standardisation, interoperability and security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Clarify and improve SEPA governance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Viktorija Proskurovska</cp:lastModifiedBy>
  <dcterms:modified xsi:type="dcterms:W3CDTF">2009-12-02T11:23:45Z</dcterms:modified>
  <cp:revision>197</cp:revision>
  <dc:subject/>
  <dc:title>Latest developments in the EU legislation on financial services</dc:title>
</cp:coreProperties>
</file>